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8E8-4D4D-430E-B5C2-98738B9E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7D6-B9DF-4984-843C-1D40857A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122CC-BB89-4674-B4ED-AB301CF1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93298-B710-4603-8BC5-BD6EF711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DC8A7-CC06-43FF-9845-9CD67BBB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F17CA-85DB-4CBC-BF2E-A92EBCB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7C758-A5BD-44BA-B088-892D0B0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433E3-EA81-4669-A03E-C20A6E9E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F6179-ABDB-47D5-8F06-65B7F895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596DF-0A28-4625-B3EF-51FCBC10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DBF1B-B354-4214-96FC-40EB665B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9D0AE-1C9A-4B57-AC03-13DF31C8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F81-C07B-48B1-88DC-6FE3A2B1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844F0-F048-4BD4-BDAD-0EF0981D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29051-8CEA-443D-ACBF-7C089EA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7583F-FA59-4DA0-B407-67C55F01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38290-1EC2-41DD-93E5-A59BC7D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1A9F0-A5C8-4DE9-BE06-449FBC0D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F6444-0562-47F4-95DB-B4BA423A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FB254-2321-42A5-8BB9-D5C6F9B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266C7-C9D7-4D28-A125-111ACF53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03A66-775E-4E43-B82A-95961FCE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3BFF7-901D-4825-9874-4F7EF598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234-8466-48F8-A255-1BF64969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0D083-439C-4CFC-BBC3-F28D069C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EAF39-311A-49B6-96B6-5085BA01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73904-7A08-4D49-960A-3C77016E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421A9-B4F8-414C-B112-0B696A04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C0F26-A78F-4CE6-8680-34D2644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9DA36-D176-4F69-9BFE-4755E08D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094DB-84C5-4CD5-8AAF-B0AC2ED9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F6C55-2996-4FF7-88C4-176E2F7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72BD0-D463-4482-A783-759B1BAA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438DE-6FC9-4B9F-BA4B-1F0DFA9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9834-42B3-40DF-8E4F-2C35EDBF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32D4C-6F3C-45FA-9CEC-5736DF93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26E03-0ED9-47A9-8901-75B43ED4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9937D-9050-4BD5-8D19-499A8D65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26780-5B13-4132-8837-916C381D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49E08-BE13-49C9-935D-F3714937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BAD71-DBD7-4614-B70A-8C3A8329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1D458-8F01-4081-B3E3-35F79877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FE138-88AE-4E5D-96F7-9651D240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60856-E2A1-46F0-AB3B-839A9E7C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C8ED3-D7AA-4116-B0AA-73B2A832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5B21-ADA9-4D9A-9DFC-5C40E490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BF2AB-DA83-4E74-A6DC-B468636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139E9-33A4-4023-AB5F-61D17D4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2BA84-0293-490E-B4AA-6CFC247D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1D6E0-6CD2-49D9-B05C-BCA89765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CC509-F7F5-4A40-8F67-9A4269D8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A0935-7E9E-4914-B754-A8159B7B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B2547-924B-42A7-94E0-B52A8F14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97865-577A-4CF3-9FF2-82CCA76E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B8197-CA9C-4B80-9BBF-DE52FAE9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10DB7-E56B-42C4-9838-C8F69193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3B3A-3FD4-48FE-92FA-FB0E873E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2F88F-902E-494C-AD18-EB4AD6B9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D73B0-E7C8-4E83-9BB7-0EFB70C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FE124-95E8-485D-8AA9-C330E71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A05B2-FDAA-4D6C-934C-000AB0DC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E6304-DEAF-42E5-B297-7A4C135F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0FB9E-13B3-4734-9166-26BB244E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E17B3-DC28-40DF-A19E-49F3A35F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C400A-A0F6-4B5B-A8EF-72322D9A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17287-4BCB-4944-84EC-83BC987E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7DFA2-5A5F-48D9-BEED-75B35BE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E6FC-D1BB-4785-8D3E-631D7E50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90B68-BEB0-4716-9193-A6D116A9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8BE71-B444-4B83-985C-43E99FAC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FB0EA-9A4E-4AD2-BD6D-8C1C7BCE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591C1-1339-4BAF-9AA2-0BAF739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C17BD-CCA4-44A1-9398-00BB730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D2B71-6B1B-481B-9904-F81EFF6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3D095-744B-4A5F-A5D6-2EDD44AF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00640-93DD-43D6-8580-7C35BCEA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2BDE9-7FE5-4689-8A5A-DEEBD26B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C5576-D72E-4E06-8316-6C003DF4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405E-2DA6-4621-93A2-98862602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71A56-A1F3-4FB5-81A2-6F217D8E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138EA-2FE7-4EBA-854E-80B1D98C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26CAE-3EC4-4962-AEC5-68B0D7EE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A2B6E-233B-4240-A940-466E4144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4D566-1732-4E6E-A9A7-8E155047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CD4D6-F2A9-40A6-8E19-D743D3E2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8E841-9A62-4DA0-B0A3-80BDA9CA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2E69D-B42A-4C9B-9295-663B9B8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347BD-B0F8-4A6F-90D0-68D86AFB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F8433-F8EA-4029-8E99-134E4C51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1BDE-2E2F-4528-93EC-6DE7693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B6E69-454D-4C4A-80A2-9EF4682C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E5011-8AE2-43D0-8E79-F71829AC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9CCB9-A49F-405F-A394-EB0EB8D3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5BA41-F044-455C-B2C3-139EB32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56706-AF8B-4198-9350-76E86D11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4502A-6F10-443B-A66F-0172F5CC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CF27F-161E-419F-BFDC-6DCA310A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69332-4CF9-4C5C-9E27-6B17DC7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8F0E8-A091-4B35-8C28-8A614CFC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7D955-7ACA-467F-A60A-E05F52C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CDDA-356F-4FD9-88CD-EA9FB1A7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A2711-0DC6-4A3F-BEA2-A1C7E797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5C1EB4-A058-4379-B87B-7C9A1146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6AC2E-9C7B-4B1C-971F-6BDA3A34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1497E-3B8A-42E2-AC78-6389ED76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B5ECD-8D8E-411A-AD19-C4D8659F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F836D-7F33-4311-969D-AF81F72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F579EB-1A0B-42A5-A9D0-C442DD7F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42481-BC83-4388-931F-415E191D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C98C9-57E1-4E76-B9F4-E072D94A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BB7EA-7ABC-4A48-917A-0172B511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A09-0722-48E2-BD29-CADDE788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9557-0152-42BC-86C7-2583B3FC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64BA8B-7953-4EA3-A145-DB37EDD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C8CD0-614D-4242-9DA3-49F2CF2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064CD-54B2-4835-B850-1F7CF82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4B6D6-839C-480B-B793-7D08E9FE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E1FE7-9B19-4396-B758-709C85DF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62043-8AF1-44DF-8EB0-301BCA1B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1D6FE-BF5E-4A92-9416-97CC9D05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ED2A7-7898-4E48-9CDC-BBDBFC38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60A42-00B2-4033-B77E-DBEEF82A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4635A-ADAB-4AA5-9537-7C34C3BF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48F9-4C0E-442C-A6CC-3DBBF75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53E9A-3EFA-4C85-BD77-DC959EF9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8A7D0-F53B-4BC6-BADF-29BB8E87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4D932-FFE2-4FC3-AFA8-5AFAE5E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F8C47-12D9-4918-9C3A-9F0264F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23F674-BC31-4FCD-BCFB-216A3EBC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87580-5212-44A8-8167-57EAED8E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2BEF9-5B04-4449-956D-0DAAB530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39598F-7CC9-4097-B800-67BE7A46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50A081-9E97-4799-9D48-3C2DB702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E9CA17-F394-4062-8C88-939F3374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21ED-1C2F-45F5-92ED-A534D006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135B9-DEE5-43A7-AF84-F445BFD7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E8BCE-9808-4843-AFD8-2BAA77BE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C1B8B-74A7-41A7-ABEF-7ECCB4FB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0F9EDA-B9AD-4404-A5B0-74700C9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9F388-81F7-4885-843B-BF8769BF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22C442-14F8-41CE-8755-75C1AABC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90DD5-F65E-4AA3-8764-C9E38C52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6615D-103E-4623-A909-4F477792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5AB11-0A88-475C-A34B-451F1474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43EA1-549D-4A42-8CDB-94E6059E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235D-585E-4AB5-9BBE-154BB70B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777E9-F5CA-4859-ABB2-EB582D90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8C324-EE8B-451A-ADCE-0CD26446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CFF90-A543-43D4-B235-F194F00B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39F838-D8E8-4C0D-A27C-039C02AC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22F48-9D2E-4FEB-99CA-5C39923B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BFDA67-7057-48E9-A060-1921A87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B8F51-D509-4505-9B85-01B32129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E65C93-D29E-4861-B2F8-A5EA978D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6CEBD5-0D75-43EB-A78B-81AD4597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5F8D2D-939F-4E5A-B772-B6C7200E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AAAC-D804-47FD-97C4-18614BF8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A7A77-D483-4F45-8363-2EF71C4E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58125-F196-4BA1-946E-25E1A0A2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75D6B-0EE5-40DC-A8F2-6F9677B9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2FB424-26E0-4EBA-80FE-20301B58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0A5782-8049-4C21-A2B3-4800DBDB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A25D8-1ED8-40B0-B068-79F4479D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29C8EB-8B4B-4D72-B679-69B6027B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230E9C-D75C-49FF-985B-EB8813A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82281-2A52-49B6-A3BF-CF98552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987538-E2AE-4C03-9E3B-D1F27E5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9EAE-4A81-415F-A32A-D67AB719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C96CFB-1FA3-4C74-8520-5987F90B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3430E-2D66-46B9-8827-BDE06C12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09636-ACEA-4369-A5A7-B7B98447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B8AD2-EC79-4476-B643-7317939C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4652E-B76F-475E-8434-14FDE411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6918-DB9A-4F91-88F1-BCB210BE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2BDB-409E-4577-8DD6-ECD88015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3BD-C2F9-4B58-BF30-AAAE9526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5C05-49B5-44C2-9632-2250EAC3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C9AE-8AAE-40C2-860C-2A05D997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06F7-039C-4360-93A5-0444C49A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81554-52A0-49A1-8EE4-F4BA7B0E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4813-2014-4611-9481-EADC69E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B05A-F4B5-4D01-BC63-4F11C676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555D-B0AC-4D20-ADEB-32B4656E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B628-A7D6-4CEA-BB64-1681E170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63BA0-DA68-466F-84C7-0D2F0E47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0C07D-A8BA-4B80-A780-78A49A34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50C-005A-4825-A3FB-7F78C823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1741D-752E-4566-9913-289FC376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3912-F7A9-48DB-8EAE-8FC5628F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0642-81EF-4AE9-9A16-26CDE948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C527C-65C4-4C3E-8E5F-5B94B53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24B3-A97D-4DB8-AA33-2F9E7C3B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0426-0623-4B4B-8E7C-24913A22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E8DF-ABBF-495F-B5DD-B018832E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DAA39-13E6-4207-BA73-5DCFECD2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0D59-EAF4-44DE-A458-74BA82D1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D06E8-49F8-4F04-AF40-10AD028D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8DA-1A1F-44E8-96BB-AE7319D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3B48-8E06-41AC-B724-2074468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4646B-F05E-40A0-B552-0FA07DF8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CB91-4E25-4F43-8EE6-47FAFE6A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A4C38-E163-41D7-A2A2-050D2AA2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9C623-B1B6-40A6-A51B-388E8B5B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888D1-C638-44EB-92E9-B8DA7A6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36C5-967F-44C1-9ABB-B1CF68E9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BF50-8518-4AA5-BB17-3F34AD3C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2641-881B-4F0B-A990-4BA36B91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C872-4CEA-4755-AA84-8CA77A34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074-3E2B-4126-B0DE-73E08553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1C129-2C42-4B4C-9B82-F0ECFFBF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7D5AA-CE24-41A1-90D4-E0B25702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642CC-3C94-48AE-BF48-05757776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E21F5-B3B9-4813-B90B-97288445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69663-EC21-4C84-A62A-563ABE31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34188-748E-4C05-97E2-2A842CE8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60E4-E737-4E16-BA6B-46BCC979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D0679-B4DB-45D0-9A23-542B1FD5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9186C-9740-4A6F-AFD0-7AC3E36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C795-0A9F-4603-A6A4-808A2DE6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3B2-4B62-405E-8516-7AF1AE1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E126-7909-41DB-B6F2-76009394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3B5B5-F079-48EE-828E-476028A3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77900-0A4F-4110-A7E9-D05AFEC2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8716A-E02E-4D5D-BAA1-BF89EC21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17448-34F0-42A7-8C36-44C76581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FB5D2-25EB-420E-8AEA-16C73CF3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2153E-08FB-4DC3-917A-A8B91D30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0FED-BDF2-4DDE-963E-C18B1EC7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7171-B9D9-47B1-B4A3-6D0448CF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A146E-98C3-4CC8-AB2E-BEE3310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442-E490-45B3-93DC-04F8B4B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4934C-DD6A-490E-9D60-D01A3FC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A4E9-B226-4F5A-8387-1D3384BA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387B3-8452-4D06-872D-3B941245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F8A1-6D57-4359-98A0-2E4D8C50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67DBB-EC9D-444C-99C8-19A32C8F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52506-F53D-4A17-AEE8-655ADF26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C6373-F7DF-47A3-971C-8F5D4975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B052-916E-4F01-A26A-A34F4C85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3CE9D-4809-44D8-B1C2-F9408758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46AD2-3785-4E8C-BB91-219AA934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855-327C-4C5D-9D5D-E67BC9E3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982CE-3FC8-4BE5-B1C4-13232796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53EDA-43B9-4B0F-B21B-82281EB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BDF47-E0C3-4EC0-B57D-8D0F1794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F94CF-7A96-40C8-BBD3-9E10A80E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744E-1BF1-42F4-9FB5-4C8AEEFC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61A4-720A-42FD-984D-1C1FA05B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5D007-DC17-4697-935A-79F52841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FB7DC-88AE-4C57-8619-2858CD94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20C00-D1F4-4C96-96CB-8A574866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63497-2916-43BB-82CD-A47BD881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3AFC-705C-440F-BA5A-D1F89CAE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719A-F3F2-41B9-9CAD-74578535A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5DF3-A0F9-446F-B572-EC1A041BA1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D135-48DE-41E9-BC1B-7073EA97F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A848-730B-4967-BE26-7A977EC2CA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95E2-1C05-4AE6-9831-EDDDF3A8DC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813F-C1C8-46E1-8DAA-C7F78C4F7B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8F32-00BF-4DFA-A526-C937C8CA9C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5C95-A044-44FC-920D-9726EFF86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A3B9-78AB-42F8-84B9-BE3FC053D3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07E-826C-4B03-B4A3-F7EBA6D57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77A0-F9D4-4E41-8A53-1AF774753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3658-E82A-4B4A-9B74-C74970780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51C1-BDE4-4484-B08C-19276ED45F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0D4D-64E6-45A7-BEEA-8ED5DC56D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0F8-EA7C-4E2B-973D-6087D65987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1638-90DE-49DE-B099-1D194634A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0B0F-4256-48D7-A169-B582554B35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F0CE-B122-45AC-9132-349509A20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0422-8ED8-48BD-A431-85472CE6E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962B-9B2F-4C85-A911-B2D48412F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7E3B-AD06-4C37-8351-218B348CC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F12C-589C-4985-916D-86DAD4E4C1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6851-3D6C-43A1-8DF3-835B834A37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5D10-A61A-4D0A-9964-426F4C8E49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07ED-DA6A-45D2-A938-FDF316A89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3875-FE3A-45A2-8630-2111F51887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E78C-45AE-4FFC-A47D-2266FEFF9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1B79-92F9-41FC-8DF4-A5F05358A1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4BEC-D510-414B-8022-1F9F0418D6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96E3-B47A-4035-B1FA-595F2A4829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A7AE-D8C4-4D38-B23C-390D18C6C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5E2-4276-44DB-AD4D-F466D6A3A0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0A1E-098B-4B30-A2CC-5643CCAEB2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FEBC-E273-4361-AFB1-A8DEA78D61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EDF4-10CD-4347-9962-A8441EC3AB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EC80-BAE0-41C9-BA41-B4F3ECEB2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BEB8-0B28-4BF6-AA3E-A7613E6C9D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3109-7A4B-4FE4-906A-149DB95618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3A13-158D-4315-A6B4-D8EE72ABE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66680" y="3033720"/>
            <a:ext cx="7010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90680" y="952560"/>
            <a:ext cx="8162640" cy="49528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57184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66560" y="1509840"/>
            <a:ext cx="8210880" cy="383832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157176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34290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433440" y="1986120"/>
            <a:ext cx="8277120" cy="2885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"/>
          <p:cNvPicPr/>
          <p:nvPr/>
        </p:nvPicPr>
        <p:blipFill>
          <a:blip r:embed="rId2"/>
          <a:stretch/>
        </p:blipFill>
        <p:spPr>
          <a:xfrm>
            <a:off x="1928880" y="5072040"/>
            <a:ext cx="5857920" cy="304920"/>
          </a:xfrm>
          <a:prstGeom prst="rect">
            <a:avLst/>
          </a:prstGeom>
          <a:ln w="0">
            <a:noFill/>
          </a:ln>
        </p:spPr>
      </p:pic>
      <p:sp>
        <p:nvSpPr>
          <p:cNvPr id="1030" name="矩形 3"/>
          <p:cNvSpPr/>
          <p:nvPr/>
        </p:nvSpPr>
        <p:spPr>
          <a:xfrm>
            <a:off x="1000080" y="20718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928800" y="40006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115120" cy="53625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2103480" y="137160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5526000" y="2397240"/>
            <a:ext cx="128592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2689200" y="338292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"/>
          <p:cNvSpPr/>
          <p:nvPr/>
        </p:nvSpPr>
        <p:spPr>
          <a:xfrm>
            <a:off x="5065560" y="4357800"/>
            <a:ext cx="164304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6"/>
          <p:cNvSpPr/>
          <p:nvPr/>
        </p:nvSpPr>
        <p:spPr>
          <a:xfrm>
            <a:off x="2857680" y="5375160"/>
            <a:ext cx="2000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447840" y="966960"/>
            <a:ext cx="8248320" cy="492408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5607000" y="1522440"/>
            <a:ext cx="164304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5078520" y="2543040"/>
            <a:ext cx="1643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5072040" y="3500280"/>
            <a:ext cx="2000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7358040" y="4000680"/>
            <a:ext cx="128592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5572080" y="5000760"/>
            <a:ext cx="1643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00800" cy="614376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1714680" y="5000760"/>
            <a:ext cx="468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1165320" y="5454720"/>
            <a:ext cx="182880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5289480" y="594684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76280" y="1028880"/>
            <a:ext cx="8191440" cy="480060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1214280" y="1071720"/>
            <a:ext cx="23576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5308560" y="160668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7112160" y="2060640"/>
            <a:ext cx="164304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3857760" y="2571840"/>
            <a:ext cx="150012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4692600" y="310356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5286240" y="407196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1214280" y="5035680"/>
            <a:ext cx="1000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0:0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